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112D-52B5-4404-93E0-CB8B8145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7ACB-074C-4FE1-A4F4-C26D76B09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6CCB-97E9-4CF9-9E87-6CD4A2AF3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929-2F9B-4591-B452-CE99F3ABB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255A-97DD-4792-98AA-EAB0D797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A84F-60AC-4D67-A02E-7FD0A3171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34C8-E00B-466B-AF46-CB7E322CC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CF4E9-AE77-45BA-90F2-B5FD88C1D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FCBB-94DE-4FF5-AFD7-ECE65F22A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B2A-D5AC-4515-8E82-63A8017CC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4B15-FA31-4A0D-99A3-37682CD84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E586-C7C6-4B22-80E8-FD1132D8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EFEF-E1DB-4395-A3DE-07995DF9F5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ロボコン九州大会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010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運営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九州大会実行委員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1184-134C-454D-8AFB-E24A0CB8C39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方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パクトな運営を目指す。負担が少な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会場は、大学関係者の方々に依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運営は、今村さんからノウハウを教わる。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事務局はＮＰＯ　ＱＵＥＳＴが主に担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費用は、ＮＰＯ　ＱＵＥＳＴに支払う。そこか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アルバイト代など支払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副運営委員長をつく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4777-A38A-4B4C-BAF0-2001BFF5D0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スケジュー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時期：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九州地区大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＝＞　この日以外は困難（会場都合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場所：　　九州産業大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チーム数２２チーム　３月２９日現在）４月６日締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＜予定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技術説明会（百道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一回試走会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I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センター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　第二回試走会（九州産業大学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15B-2CC1-4852-BF24-9B878A043D9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実行委員会組織（案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5075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顧問：吉田市長　牛島先生、　松尾会長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C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委員長：福田先生（九大）　副：芦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技術委員長：有森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（＝＞技術説明会　中心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技術：甘田（ｺｱ）、赤山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TE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小田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S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委員長：岩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N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審査：中西（九大）、久住（九大）、北須賀（熊大）、片山（宮大）、梶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L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鳥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性能審査：松下（コア）、片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運営委員長：　　今村さん＝＞　本部との連絡：芦原　＝＞　澤田先生、木下さん、　副運営委員長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対外折衝：芦原　　　＝＞　　澤田先生、木下さん　、副運営委員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実行委員間調整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　　　　　　　　　　　　　　　　　全体管理：芦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運営：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三宅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）、中嶋（東海大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富松（電盛社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木下（沖通信）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、椛島（安川情報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澤田（九産大）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藤原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川津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OS)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務局長：山下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事務局　原野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S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）、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瓜生（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QUEST)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アルバイト、犬塚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カタログ：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：ティーシャツ：会場手配：本戦のときは澤田先生　会場設営指示：台本作成：　流用　参加者やり取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ボランティア：・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2ED2-9AC9-46A7-8D43-0D203EA9A3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課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3628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運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催時期の決定：９月４日、５日？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&gt;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明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判断（澤田先生連絡による。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運営委員長の選定（今村さんからの引継ぎ）、実行委員会構成の確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事務局の強化、犬塚さん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イシンコムクルーズの　近藤さんを実行委員会へ＝＞様子見（ボランティア、当日きてください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旅費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万円振り込みあり、その使用方法について合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　連絡会議　出席者　　＝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まで芦原ま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各担当から、福田、芦原、山下、岩崎・中西、甘田、有森（講師をする人？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　　　　　　　　　　（福田、岩崎、中西、山下、甘田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0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年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審査合宿の予約　　＝＞　事務局に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福岡市への後援依頼　＝＞　本部　羽根田さんが手続き　＝＞完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承諾書＝＞連絡会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日東京に持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05A2-23D7-477A-A747-45169AB199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技術教育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追加技術説明会（ＤＳＬ、コード評価）、追加試走会開催の計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　　　　　モデル教育など　＝＞　　ＬＳＩカレッジ、ＱＵＥＳＴ教育の紹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事前教育自前化（本部からでなく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＝＞マニュアル通りの教育はできる。アドバイザで本部から呼ぶ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ロボコン用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の購入（測定用）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万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ホームページ作成　＝＞九産大に依頼？　明日確認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参加者写真掲載、承諾書必要。　大学（九大）にお願い、服部さん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　ビデオとり：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メーリングリスト（今村さん管理から変更）　＝＞　すこしそのま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大会準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司会の準備　＝＞　昨年度の南さんか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コース土台（大分県で製作予定あり、１０万円）・・・・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インターネット中継（九産大の下川先生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財産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年度）ＭＣＣにあるものの整理：　ＬＳＩセンターを倉庫に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D0A2-AE61-4A11-9AC8-1DC3CA6D91F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預金残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実行委員会（入金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85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に本部より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入金予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運用口座に移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ロボコン九州地区（運用口座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3,0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＝＞　＋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で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チャンピョンシップ大会への旅費補助に使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676D-920A-49C7-8F8A-32D180EC94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9T04:09:54Z</dcterms:created>
  <dc:creator>nal</dc:creator>
  <dc:description/>
  <dc:language>en-US</dc:language>
  <cp:lastModifiedBy>芦原秀一</cp:lastModifiedBy>
  <dcterms:modified xsi:type="dcterms:W3CDTF">2010-03-30T00:43:17Z</dcterms:modified>
  <cp:revision>5</cp:revision>
  <dc:subject/>
  <dc:title>ETロボコン九州大会2010 運営方針</dc:title>
</cp:coreProperties>
</file>